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B02-268B-4839-9026-50A4115A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2BD4-8F55-4A35-AD13-11A4BE48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AE1-4CD1-4EFF-BD04-5592F034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84A-A206-4AB5-A620-F283565C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0A4-7E99-478E-9AE3-EA0DD0F4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ABB-8EF5-49EF-AC3F-4C8F4C6C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BB5-0268-404B-AD89-35A9B8DC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C02-0B8E-4676-9621-D6134A15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142-54D6-4790-8CA4-C76F04E1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D89-C3E2-417B-82EA-877D47DF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93C2-2901-41CB-985C-029A814D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F63-0BF4-455E-A515-9E67878D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5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091673-E701-4B27-8F32-4AB3BD38C17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bmcardle@mail.uri.edu" TargetMode="External"/><Relationship Id="rId3" Type="http://schemas.openxmlformats.org/officeDocument/2006/relationships/hyperlink" Target="mailto:David@uri.edu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58840"/>
            <a:ext cx="9448560" cy="1276200"/>
          </a:xfrm>
          <a:prstGeom prst="rect">
            <a:avLst/>
          </a:prstGeom>
          <a:solidFill>
            <a:srgbClr val="00cc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Wanna Give Back To Your Commu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empus Sans ITC"/>
              </a:rPr>
              <a:t>Pathways for Success in Science (PSS) Mentor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47920" cy="47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553080"/>
            <a:ext cx="9524880" cy="1083240"/>
          </a:xfrm>
          <a:prstGeom prst="rect">
            <a:avLst/>
          </a:prstGeom>
          <a:solidFill>
            <a:srgbClr val="800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empus Sans ITC"/>
              </a:rPr>
              <a:t>Want more inform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Beth McArdle a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empus Sans ITC"/>
                <a:hlinkClick r:id="rId2"/>
              </a:rPr>
              <a:t>bmcardle@mail.uri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or Dave Abedon a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empus Sans ITC"/>
                <a:hlinkClick r:id="rId3"/>
              </a:rPr>
              <a:t>David@uri.edu</a:t>
            </a: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2590920"/>
            <a:ext cx="5105520" cy="3931920"/>
          </a:xfrm>
          <a:prstGeom prst="rect">
            <a:avLst/>
          </a:prstGeom>
          <a:solidFill>
            <a:srgbClr val="0080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empus Sans ITC"/>
              </a:rPr>
              <a:t>Opportunitie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* Learn how to teach middle school children hands-on science in a  3-credit NRS 491 co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*Apply the knowledge you’ve gained once a week and teach in an urban school set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*Become a mentor, friend, and role-model for urban children and learn about their diverse backgr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*Looks great on your resum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*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empus Sans ITC"/>
              </a:rPr>
              <a:t>Topics range from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: rocketry/space theme, nutrition, environmental and wildlife sciences, biology, engineering, and what ever science background you have!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9296280" y="152280"/>
            <a:ext cx="58428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38280" y="1676520"/>
            <a:ext cx="5105520" cy="12207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empus Sans ITC"/>
              </a:rPr>
              <a:t>What is PSS mentor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PSS mentoring is for URI students to work with underrepresented minorities  in urban middle schools in order to help them gain confidence in the  science fi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52280" y="5791320"/>
            <a:ext cx="2133720" cy="1676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696080" y="3886200"/>
            <a:ext cx="2210040" cy="173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696080" y="1752480"/>
            <a:ext cx="221148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rcRect l="0" t="0" r="6446" b="0"/>
          <a:stretch/>
        </p:blipFill>
        <p:spPr>
          <a:xfrm>
            <a:off x="152280" y="3809880"/>
            <a:ext cx="2210040" cy="175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7696080" y="5924520"/>
            <a:ext cx="2210040" cy="165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52280" y="1752480"/>
            <a:ext cx="2210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40:35Z</dcterms:created>
  <dc:creator> </dc:creator>
  <dc:description/>
  <dc:language>en-US</dc:language>
  <cp:lastModifiedBy>sa2</cp:lastModifiedBy>
  <dcterms:modified xsi:type="dcterms:W3CDTF">2008-05-01T17:58:48Z</dcterms:modified>
  <cp:revision>37</cp:revision>
  <dc:subject/>
  <dc:title>Slide 1</dc:title>
</cp:coreProperties>
</file>